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535-59FD-452E-BB04-3990D22C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D5A-E050-4276-AF0D-D035A91C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B9A0-1E37-4674-847F-F93E533E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245E-3612-40B4-A5F7-D7C0FF6B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9AA9-F45F-453C-A7BA-86934D02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BC6F-6F93-4CF1-A1C0-4F0261BB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121-5DFF-4C07-AA35-C681E772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E7B-D386-4A96-80AF-01057868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D44-12BF-4313-B72E-07F902E1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F93C-2942-45E0-864F-2587EAEB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5556-F850-4E02-867C-2744CC8A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984-D2B2-46F6-8EA1-5DB17AFD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F90C-7559-487A-99E0-885D6B71AAD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d7d7ff"/>
                </a:solidFill>
                <a:latin typeface="Times New Roman"/>
                <a:cs typeface="ALAWI-3-4"/>
              </a:rPr>
              <a:t>النصيحة بجم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3645000"/>
            <a:ext cx="417672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cc"/>
                </a:solidFill>
                <a:latin typeface="Times New Roman"/>
                <a:cs typeface="FS_Free"/>
              </a:rPr>
              <a:t>الجزء الأ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201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لابد من شيء من المخاطرة المحسوبة، من أجل النجا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761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000" spc="-1" strike="noStrike">
                <a:solidFill>
                  <a:srgbClr val="666699"/>
                </a:solidFill>
                <a:latin typeface="Times New Roman"/>
                <a:cs typeface="Andalus"/>
              </a:rPr>
              <a:t>النصيحة بجم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جزء الث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ff"/>
            </a:gs>
            <a:gs pos="100000">
              <a:srgbClr val="6e7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648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استرخِ، حتى في أحلك الظرو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537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d9a1"/>
                </a:solidFill>
                <a:latin typeface="Times New Roman"/>
                <a:cs typeface="FS_Free"/>
              </a:rPr>
              <a:t>احرص على العمل بروح الفري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257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129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نكتة عابرة تشيع البهجة لدى الجمي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832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481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FS_Free"/>
              </a:rPr>
              <a:t>عبر عن نفسك بطرائق مبتكر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00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68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كن يقظًا </a:t>
            </a:r>
            <a:r>
              <a:rPr b="1" lang="ar-SA" sz="3200" spc="-1" strike="noStrike">
                <a:solidFill>
                  <a:srgbClr val="336699"/>
                </a:solidFill>
                <a:latin typeface="Times New Roman"/>
                <a:cs typeface="FS_Free"/>
              </a:rPr>
              <a:t>دائمًا</a:t>
            </a:r>
            <a:r>
              <a:rPr b="1" lang="ar-SA" sz="2800" spc="-1" strike="noStrike">
                <a:solidFill>
                  <a:srgbClr val="336699"/>
                </a:solidFill>
                <a:latin typeface="Times New Roman"/>
                <a:ea typeface="FS_Free"/>
              </a:rPr>
              <a:t> لمواجهة المفاجآ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112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5832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9900"/>
                </a:solidFill>
                <a:latin typeface="Times New Roman"/>
                <a:cs typeface="FS_Free"/>
              </a:rPr>
              <a:t>أشْرِك الآخرين في المغنم أيضً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473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2f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الأمور الطيبة تحدث للطيب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519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ليكن لك من اسمك نصي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240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e89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FS_Free"/>
              </a:rPr>
              <a:t>                             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الصديق وقت الضي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3611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تمسك بأصدقائك الأوفياء، فهم قليلون هذه الأيا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329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0066"/>
                </a:solidFill>
                <a:latin typeface="Times New Roman"/>
                <a:cs typeface="ALAWI-3-4"/>
              </a:rPr>
              <a:t>تشكرات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ee9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ثِق في قدرات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1201680"/>
            <a:ext cx="60483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8500"/>
            </a:gs>
            <a:gs pos="100000">
              <a:srgbClr val="6666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43280" y="549360"/>
            <a:ext cx="41040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imes New Roman"/>
                <a:cs typeface="FS_Free"/>
              </a:rPr>
              <a:t>كن شجاعً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393920"/>
            <a:ext cx="56894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e9f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640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تكيف مع الظروف مهما كانت صعب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43320" y="1981080"/>
            <a:ext cx="24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50920" y="475920"/>
            <a:ext cx="460836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ffaff"/>
                </a:solidFill>
                <a:latin typeface="Times New Roman"/>
                <a:cs typeface="FS_Free"/>
              </a:rPr>
              <a:t>نوِّع في علاقات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545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32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حافظ على هدوئك، حتى في أصعب المواق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83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ffff"/>
                </a:solidFill>
                <a:latin typeface="Times New Roman"/>
                <a:cs typeface="FS_Free"/>
              </a:rPr>
              <a:t>لابأس بشيء من الدعابة، ففي الحياة مايكفي من المنغص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90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97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أحب أصدقاءك كما هم، لاكما تريد أن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</cp:lastModifiedBy>
  <dcterms:modified xsi:type="dcterms:W3CDTF">2006-05-13T08:30:55Z</dcterms:modified>
  <cp:revision>9</cp:revision>
  <dc:subject/>
  <dc:title>PowerPoint Presentation</dc:title>
</cp:coreProperties>
</file>